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rcRect l="0" t="0" r="0" b="7953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"/>
          <p:cNvSpPr/>
          <p:nvPr/>
        </p:nvSpPr>
        <p:spPr>
          <a:xfrm>
            <a:off x="1692360" y="907920"/>
            <a:ext cx="770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Lesson 13 At Schoo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095240" y="981000"/>
            <a:ext cx="13993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小练习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87280" y="477720"/>
            <a:ext cx="44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Where is Danny?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44720" y="1197000"/>
            <a:ext cx="624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He  is  ______the 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16000" y="1844640"/>
            <a:ext cx="54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Where  is  Li  M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638440"/>
            <a:ext cx="458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He is_____the libr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87280" y="3213000"/>
            <a:ext cx="40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Where is Jen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87280" y="3860640"/>
            <a:ext cx="71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She is_____the play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5797440" y="1054080"/>
            <a:ext cx="568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schoo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268360" y="3933720"/>
            <a:ext cx="31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What's 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5157720"/>
            <a:ext cx="36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It's my school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6720" y="477720"/>
            <a:ext cx="5254920" cy="3284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1080" y="3933720"/>
            <a:ext cx="2095560" cy="2095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948360" y="3860640"/>
            <a:ext cx="25718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4938"/>
          <a:stretch/>
        </p:blipFill>
        <p:spPr>
          <a:xfrm>
            <a:off x="-468360" y="0"/>
            <a:ext cx="5757840" cy="3645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32000" y="3573360"/>
            <a:ext cx="3024360" cy="1662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08000" y="4869000"/>
            <a:ext cx="419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What's  thi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6000" y="4581360"/>
            <a:ext cx="390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It's my classroom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38840" y="1444680"/>
            <a:ext cx="521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classroom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15080" y="476280"/>
            <a:ext cx="41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教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24000" y="404640"/>
            <a:ext cx="4782960" cy="3240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05320" y="1116000"/>
            <a:ext cx="301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图书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65880" y="2332080"/>
            <a:ext cx="285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libr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44720" y="4581360"/>
            <a:ext cx="737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This is my library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6720" y="119160"/>
            <a:ext cx="4824720" cy="3211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64000" y="838080"/>
            <a:ext cx="398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playgrou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75240" y="2340000"/>
            <a:ext cx="327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操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6720" y="3933720"/>
            <a:ext cx="879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This  is  our playground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79280" y="4438800"/>
            <a:ext cx="784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们的学校真美呀，可是当你找不到某地该怎么 说呢，现在来学习一下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788000" y="1701720"/>
            <a:ext cx="3560760" cy="2664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2741760" cy="2809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08000" y="3141720"/>
            <a:ext cx="4092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Look,this is my schoo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84720" y="189000"/>
            <a:ext cx="4516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Your school is grea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14520" y="765000"/>
            <a:ext cx="2230200" cy="4345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0" r="0" b="2735"/>
          <a:stretch/>
        </p:blipFill>
        <p:spPr>
          <a:xfrm>
            <a:off x="6138720" y="2205000"/>
            <a:ext cx="3005280" cy="4176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203640" y="693720"/>
            <a:ext cx="5400720" cy="15112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40360" y="1054080"/>
            <a:ext cx="483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I  can  show  you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35280" y="4221000"/>
            <a:ext cx="5977080" cy="26654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4654440"/>
            <a:ext cx="52228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8720" y="4510080"/>
            <a:ext cx="5010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Excuse me, Miss Zhang.Where's the computer ro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0" y="3592440"/>
            <a:ext cx="2286000" cy="3005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54160" y="-25560"/>
            <a:ext cx="2085840" cy="4064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03640" y="189000"/>
            <a:ext cx="4537080" cy="108108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Here it i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48000" y="404640"/>
            <a:ext cx="38988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03640" y="477720"/>
            <a:ext cx="44006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29080" y="4581360"/>
            <a:ext cx="3455640" cy="1079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Thank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932360" y="1413000"/>
            <a:ext cx="4103640" cy="30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4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4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68360" y="981000"/>
            <a:ext cx="304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Arial"/>
              </a:rPr>
              <a:t>知识盘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0200" y="3065400"/>
            <a:ext cx="5529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school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：学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classroom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：教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library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：图书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playground: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操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6094440"/>
            <a:ext cx="59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Arial"/>
              </a:rPr>
              <a:t>这几个单词一定要背下来呀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2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77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77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2" dur="77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9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1T01:25:58Z</dcterms:created>
  <dc:creator/>
  <dc:description/>
  <cp:keywords/>
  <dc:language>en-US</dc:language>
  <cp:lastModifiedBy/>
  <dcterms:modified xsi:type="dcterms:W3CDTF">2018-08-17T09:16:09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